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21-EFD4-43BE-B54A-2670790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33D-99BF-4E21-BF81-68CF8EC8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307-3A78-46D1-9987-85D69898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051-5583-47B3-A709-3606F373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9AB-44D6-4352-9670-021194B1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F84-5323-4DD6-B308-4F22C58A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D9D2-8E5E-4F41-9ACC-BBD2B4E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043-F567-4943-9C7D-5494459A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113-7CB3-4B17-BF55-D36F940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79FB-6D5D-4829-94CB-818E00E6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3AC-6BE7-49E8-9386-62A041F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2B9-94D3-46CB-9799-A5F4698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F34F-A67C-49E5-A59E-4930E22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8D88-B5C3-4096-B8C3-F88CF58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789F-4328-462D-AA8B-DDEAFE9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D374-57FA-40D4-ACAD-804708FD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3E6F-0309-4E0F-9BC2-0F11BE7B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5025-5163-4542-8590-D1687416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1147-7A29-4635-86C5-C62EC34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E286-77B8-4095-83A1-53DD81C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BD5E-DDE0-4373-A91B-4E67AFAD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9F82-7DF5-4FAF-9FC1-6D0F8CE7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781-6EEC-4003-88B2-B9A4E4B6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1E20-2BE2-4FA2-84E1-0FF6D86C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C2C0-328E-4300-9956-7D75CF1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F5DA-EEB0-4C85-AFCA-9ED662A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04A8-F761-4590-881B-A286333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84D8-875A-4FAE-9986-8C24BA76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609B-6E23-4D62-962B-D19EE0B5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5C27-DF62-4002-813F-DC3FEE8E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9163-A91E-40D2-A58B-DA22DAE0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5FF6-9CB2-4C65-819A-9F24D80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CA7B-994A-4C35-9B59-BD121BAF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CE1-2FD0-404E-A864-4100E3A8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9D48-A24C-47A6-8D23-E27A2B2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A165-C58D-4C0D-A05A-20FB248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9BE7-D59C-496D-B789-8D3E99D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1586-5FA7-4586-9CC7-9370CF9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6462-2EB8-4BB6-914C-7BD241D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2D03-B3FA-49C7-9C54-814286F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E358-1BEC-4101-8C62-878E3DA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F4DF-BC6C-46AD-A20D-9C5C8BDE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1EFC-CB25-4135-9D8E-28FBE479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759-4871-4774-A888-AC03FBF4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31D-F805-44D5-A8BC-BBEEFAE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D00-D870-405C-93E2-979E5F8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67E-F078-4D04-8E98-C427100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83E-783E-43EA-A314-00AF59B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5C0-F03F-480D-98C2-6A6664617F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AD88-A38D-4CBB-8EA9-4914DA6ADA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8A71-D49C-4A9D-B38C-11296FADDA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ACC-8346-4A0E-AA51-1A93DCF827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osc.noaa.gov/docs/products/NOAA_Procedure_document_final_12-16-1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463680"/>
            <a:ext cx="8461440" cy="3717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2257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d Kea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ional Climatic Data Cen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heville, N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nndcright.gif"/>
          <p:cNvPicPr/>
          <p:nvPr/>
        </p:nvPicPr>
        <p:blipFill>
          <a:blip r:embed="rId2"/>
          <a:stretch/>
        </p:blipFill>
        <p:spPr>
          <a:xfrm>
            <a:off x="6324480" y="5638680"/>
            <a:ext cx="2000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ve and Ac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chives preserve data, make them accessible in meaningful ways , and ensure their information remains available for future gener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changes in technology and observing systems are anticipat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kinds of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hould be archived in the fu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can the Data Centers do to prep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ve Responsibil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cept information from Data Produc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sufficient control to ensure long-term preservation  and access (stewardshi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sures the information to be preserved is independently understandable  and accessible now and in the fu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llow policies and procedures that ensure the information is preserved against all reasonable contingen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 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al Storage: Paper, Tapes, Spinning D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uture: solid stat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ultimately  fragi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urity though redunda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ple copies, distributed syste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: high speed internet, physical media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tributed systems, multiple access poi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formats:  facilitate access, self describing, metadata st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ess tools that serve data to a variety of audi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ata can be expected to be well-cared for….but what about the inform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archiv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AA Observing Systems Counc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osc.noaa.gov/docs/products/NOAA_Procedure_document_final_12-16-1.pd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ume of Observations : NCDC stores 3.5 PB to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POESS, next-gen NEXRAD : several PB per year incre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l outputs : archive them if not easily reproduc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 for how long? Shelf life of synthetic data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rived products : process raw records to higher lev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imate Data Records  (CD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imate  Information Records (CI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DR and C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mate Data Records (CDRs) are the essential long term records for climate studies and assess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DRs require updates as our knowledge of the observing systems and science impro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chived data must be revisited, reproce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mate Information Records (CIRs) are derived from and directly dependent upon CD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level CIRs will be found more useful by a larger number of user commun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ater managers, energy industry, ecosystem manag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Rs place more emphasis on access and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ent 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lly track associations between the archived information and its users an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an aggregate value of the info for our socie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 a 2-way relationship between info and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a context for the information for future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 more information to broader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 reliance on hierarchal systems and more on networked systems – ideally a blend of the tw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ster transitions from research to ope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oughts and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out history, significant information breakthroughs have brought about social and/or technological revolu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literac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urvival of archives across generations has been a political issue, not a technical or physical iss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chives must serve society to stay relevant – so what does society want from our archiv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43:45Z</dcterms:created>
  <dc:creator>Government Employee</dc:creator>
  <dc:description/>
  <dc:language>en-US</dc:language>
  <cp:lastModifiedBy>Government Employee</cp:lastModifiedBy>
  <dcterms:modified xsi:type="dcterms:W3CDTF">2009-01-06T13:47:58Z</dcterms:modified>
  <cp:revision>111</cp:revision>
  <dc:subject/>
  <dc:title>Data Stewardship at the NOAA Data Centers : Long Term Archive and Access</dc:title>
</cp:coreProperties>
</file>